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324-EBE8-4CCE-9B83-0DB74E38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EB2-EA4E-4390-AF68-5527CA85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50A-528A-407D-9421-2DBEB46C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151-9BB1-450A-9748-C7EE708E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D904-DC7B-46CA-88CB-EBB5BCDA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1CC1-BD24-4BC8-A323-FC134FA6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D6D1-78D6-474C-BB04-811504B9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2114-506B-49A2-8664-7E693AF5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0172-BEA7-444C-B961-9A240DE4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F176-91C3-4F8C-95FC-6B8ACF16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7A7E-09E7-46D7-8814-F72AEBD2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82A-CCEE-4A75-AEFF-56695764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C629-F1EA-43F7-B4F7-781FDBAB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CED7-592E-4D5A-AFB6-1BDB22C0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F5F6-5DCF-439F-AA10-FB9B2573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71B0-24BA-4659-AD33-96A487B9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7F21-4FBC-4BD8-A585-8994841D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DA511-CC53-45DA-80E1-9F7F6085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CA8DA-FBE5-4224-821E-C93CF3BB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F6D4-342F-45CA-9F24-31C5CF4F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7E657-DC5A-4FAE-AF2F-85F2D34F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41CE-5773-492D-B598-04599DA5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82C-44F8-471B-8D35-17659533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212B7-C32C-4881-9895-6CE0AECB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53BED-9A1B-42A8-B6A2-7D1655BE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6FEC9-5F5A-4CEC-99E1-22A71913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35D6C-CCFC-434B-B906-B6840368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F308A-501C-4CA9-9690-2D805D2D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05A0F-88FB-424F-A4B7-D121725E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7D99-9FB8-4075-A4FC-7AAED09B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10E97-8776-42C8-9F1D-6AF0D810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000CB-305D-48B8-9713-410EA966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757D-6521-4908-B9F1-66D04BFB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66B-A176-46A3-9103-CF1DBD97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1E952-C7A7-4D9B-B14C-A168DD9F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5242D-E974-4B88-A2EE-EA43B93F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2E0D2-1B5E-4681-B65F-AEE79A19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595AE-17E9-4628-9F57-3B620AE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FD19A-A63E-4AC6-AF93-54A6CB1C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2D8D5-7BE1-40E4-A94E-0FB4337A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5A17C-63C9-42D2-8ECF-046D3755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42B8F-548F-4F50-BA86-FE9EC2E0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F7D71-96B5-45BA-B6A2-4E50517E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9C464-EC27-4DC5-9BE4-2F164131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D1B-E7CD-44D8-B809-F7BFECDB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2A2DF-9350-4F35-99EB-8D95DE91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545A6-2CCB-4914-9B2C-DA2070C5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CA3AE-EF10-4917-8ACF-F0FD4D54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D8F8F-F00C-4B90-A98A-0878C79B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64F96-6FB4-43A6-B861-9B85ED62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3B487-2F45-4C56-B2D6-AA57D2BB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5A6F5-AF3C-42E2-B18B-DF3F9726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745FF-F6D9-4B48-81F5-AAF89252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53F5A-2CDE-4A4D-B074-77603CA1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B1780-4994-4C30-BFE6-411DB6EE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2D5-525B-46EF-859E-A03D14AC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FA0C0-0924-4A08-8933-72865139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645A0-A287-4C84-9E9C-0F082950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AA0007-A1F8-4F30-ADEC-3BA370A1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D7E70-F53F-4F44-B847-3239C4C0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1242DE-DD51-4614-90B1-D398619E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4D9AC-CF3C-4CCF-9B41-67F10157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9E9151-7394-4929-8831-EFC43C84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E9830-D22C-42C1-8E96-FEE1A8D0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83837-445D-4783-9B28-3031B8EE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28AA9-E95B-4424-B5EB-E3275214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56F-43F5-4CEE-A999-09A06C0E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AD77D-70A5-4196-9CFA-692AEA70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4724DA-B087-4B04-9886-E7C794EC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EC37E-78F7-40BB-92FE-7695B660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4FA-795B-4868-9366-349BDFDF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1F9-2751-4EBC-B3AC-0CE4C096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D9B2-BC9F-422E-97A0-0FD61E03D7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E570-2FDD-46A8-B7D2-70B0C76966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4521-E0FC-4E9F-94AC-787BA2E154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8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8087-9D1A-47A4-829C-C8458D2C6D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2F8E-16F5-4ADA-BF62-DC70A102CA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5E2E-1AFD-4644-A00C-438F456E77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Battle Of Shiloh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denbaugh &amp; Kir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545160" y="3809880"/>
            <a:ext cx="2598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f5f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5c984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c984"/>
                </a:solidFill>
                <a:latin typeface="Arial"/>
              </a:rPr>
              <a:t>The 2 day battle of Shiloh resulted in defeats of the confederal a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c984"/>
                </a:solidFill>
                <a:latin typeface="Arial"/>
              </a:rPr>
              <a:t>Johnston's plans to rent the joining of the two armies in Tennessee were ru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c984"/>
                </a:solidFill>
                <a:latin typeface="Arial"/>
              </a:rPr>
              <a:t>Unit casualties were 13,047. 1,754 were killed.8,408 wounded. 2,885 mis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c984"/>
                </a:solidFill>
                <a:latin typeface="Arial"/>
              </a:rPr>
              <a:t>Confederate casualties 10,699.1,728 killed.8,012 wounded.959 captured or mis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50000">
              <a:srgbClr val="3366ff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lexingtonrifl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arly Morning Attac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am April 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Johnston army was deployed for batt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ntire army was just 2mi away from the un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feds had a strategic and tactical surp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110280" y="4654440"/>
            <a:ext cx="30337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10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rant and Sherman Rall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many inexperienced union soldi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fled for safety to the Tennessee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t kept preparation for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t appeared every were along his lines to rally his raw recru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657600" y="5091120"/>
            <a:ext cx="1392120" cy="17668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010280" y="5243400"/>
            <a:ext cx="13240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1c1c1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w wallaces lost divi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lace was sent to reinforce but didn't find Sherman's tr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tarted walking backwards and found grants position around 6:30 or 7p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581280" y="4024440"/>
            <a:ext cx="212436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50000">
              <a:srgbClr val="ff0000"/>
            </a:gs>
            <a:gs pos="100000">
              <a:srgbClr val="1c1c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rnets n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lace's men were in a field called hornets n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eld was along the old sunken 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ion got there at 9 am and 2 hrs later the confeds attac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feds had over 50 cannons and their in a blast line surrounding Wallace's troo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7318440" y="0"/>
            <a:ext cx="1825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7"/>
            </a:gs>
            <a:gs pos="100000">
              <a:srgbClr val="1c1c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fense at Pittsburg lan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defense at Pittsburg landing was between a rock and a hard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fter the hornets nets fell the unions troops formed a 3 mile fro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209680" y="3762360"/>
            <a:ext cx="388620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Evening lu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One of the bloodiest battles in u.s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The union won the ba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April 6</a:t>
            </a:r>
            <a:r>
              <a:rPr b="0" lang="en-US" sz="3200" spc="-1" strike="noStrike" baseline="30000">
                <a:solidFill>
                  <a:srgbClr val="808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 the battle happened at 4am when back up arr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Battle, April 7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The combined union armies numbered 45,000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In the first day they lost 8,500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The south width drew from the ba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905120" y="3789360"/>
            <a:ext cx="41338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Fallen timbers April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Grants army lacked the large Calvary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union lost 100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battle was placed in the forest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1752480" y="3405240"/>
            <a:ext cx="53625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03:35Z</dcterms:created>
  <dc:creator>broganmkirby</dc:creator>
  <dc:description/>
  <dc:language>en-US</dc:language>
  <cp:lastModifiedBy>broganmkirby</cp:lastModifiedBy>
  <dcterms:modified xsi:type="dcterms:W3CDTF">2009-03-19T12:48:31Z</dcterms:modified>
  <cp:revision>6</cp:revision>
  <dc:subject/>
  <dc:title>Battle Of Shiloh</dc:title>
</cp:coreProperties>
</file>